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364-48F2-4667-82E6-0A3CE72B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C2F-79FA-49B5-9983-2B881766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3E52-989A-42AC-AC2C-CFE78BA0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D824-0EFD-48AF-9E24-F115A8BE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FED-9752-4BA2-9E06-435B0C8B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7951-2D09-48B9-8846-D06F477B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B9F-B4F7-43B2-BA15-77511E8C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05E-8A43-4119-9D42-4EB5BC76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A80-0143-4DA8-91AF-0B38823B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8DED-00B4-4654-AB84-2381A56C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D432-3EE0-4AB5-A92A-F2091E8C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CAC-B540-4EF0-8A58-F60F9DD8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0514-3629-4BD3-8116-A5A1F6BA9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h07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44640" y="144360"/>
            <a:ext cx="4752720" cy="67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30000">
                <a:solidFill>
                  <a:srgbClr val="ff0000"/>
                </a:solidFill>
                <a:latin typeface="Arial"/>
                <a:ea typeface="Simplified Arabic Fixed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اتي لحظ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و ساعة تم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و يوم واحد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فر من ي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كي أحبك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أرض يااله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 عندي إلا اليو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08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04400" y="434880"/>
            <a:ext cx="50346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حبك يسو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فسي اليك عطش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يوم واح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ن ملجأي الأ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جعلني عرشك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زيني بابتسا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بي فقط هذا اليو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1080" y="228600"/>
            <a:ext cx="502992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 هم ان بد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ستقبلي غيو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صلي للغ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ا لا لن استط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حفظ طهار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ظللني بالقداس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بي فقط هذا اليو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h0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h06" descr=""/>
          <p:cNvPicPr/>
          <p:nvPr/>
        </p:nvPicPr>
        <p:blipFill>
          <a:blip r:embed="rId2"/>
          <a:stretch/>
        </p:blipFill>
        <p:spPr>
          <a:xfrm>
            <a:off x="0" y="0"/>
            <a:ext cx="5040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47080" y="457200"/>
            <a:ext cx="5029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رجوك خلني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وجهك أضي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لا أصغي إ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صوت الدنيا العق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ب لي حنانك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نعمة الطفو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بي فقط هذا اليو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h12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48600" y="457200"/>
            <a:ext cx="5029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ظل عرشك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خشى ما ليس أن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لا تخيفني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ياهب الظل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لا هيأت لي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ذاالقلب مكا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بي فقط هذا اليو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51:04Z</dcterms:created>
  <dc:creator>USER</dc:creator>
  <dc:description/>
  <dc:language>en-US</dc:language>
  <cp:lastModifiedBy>USER</cp:lastModifiedBy>
  <dcterms:modified xsi:type="dcterms:W3CDTF">2003-02-09T02:37:57Z</dcterms:modified>
  <cp:revision>2</cp:revision>
  <dc:subject/>
  <dc:title>PowerPoint Presentation</dc:title>
</cp:coreProperties>
</file>